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880" y="38779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292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832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076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588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832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076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95400" y="241200"/>
            <a:ext cx="709128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292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1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2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3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4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5" marL="173160" indent="-17316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6" marL="173160" indent="-17316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pic>
        <p:nvPicPr>
          <p:cNvPr id="2" name="Picture 33" descr="app"/>
          <p:cNvPicPr/>
          <p:nvPr/>
        </p:nvPicPr>
        <p:blipFill>
          <a:blip r:embed="rId2"/>
          <a:stretch/>
        </p:blipFill>
        <p:spPr>
          <a:xfrm>
            <a:off x="-4680" y="-9360"/>
            <a:ext cx="9148680" cy="977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34" descr="app"/>
          <p:cNvPicPr/>
          <p:nvPr/>
        </p:nvPicPr>
        <p:blipFill>
          <a:blip r:embed="rId3"/>
          <a:stretch/>
        </p:blipFill>
        <p:spPr>
          <a:xfrm>
            <a:off x="-4680" y="992160"/>
            <a:ext cx="9148680" cy="98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7" descr="logo_hidrografico_br_rgb"/>
          <p:cNvPicPr/>
          <p:nvPr/>
        </p:nvPicPr>
        <p:blipFill>
          <a:blip r:embed="rId4"/>
          <a:stretch/>
        </p:blipFill>
        <p:spPr>
          <a:xfrm>
            <a:off x="136440" y="93600"/>
            <a:ext cx="1727280" cy="773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8" descr="app"/>
          <p:cNvPicPr/>
          <p:nvPr/>
        </p:nvPicPr>
        <p:blipFill>
          <a:blip r:embed="rId5"/>
          <a:stretch/>
        </p:blipFill>
        <p:spPr>
          <a:xfrm>
            <a:off x="-9360" y="6581880"/>
            <a:ext cx="7481880" cy="79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" name="Picture 39" descr=""/>
          <p:cNvPicPr/>
          <p:nvPr/>
        </p:nvPicPr>
        <p:blipFill>
          <a:blip r:embed="rId6"/>
          <a:stretch/>
        </p:blipFill>
        <p:spPr>
          <a:xfrm>
            <a:off x="7480440" y="6232680"/>
            <a:ext cx="12888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99d"/>
                </a:solidFill>
                <a:latin typeface="Tahoma"/>
              </a:rPr>
              <a:t>IALA Questionnaire 2011 (M2)</a:t>
            </a:r>
            <a:br>
              <a:rPr sz="2800"/>
            </a:br>
            <a:r>
              <a:rPr b="1" lang="en-US" sz="2800" spc="-1" strike="noStrike">
                <a:solidFill>
                  <a:srgbClr val="00599d"/>
                </a:solidFill>
                <a:latin typeface="Tahoma"/>
              </a:rPr>
              <a:t>[2010 data]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3789360"/>
            <a:ext cx="8569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Victor Conceição – Hydrographic instit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Jorge Teles – Lighthouses Authority (P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99d"/>
                </a:solidFill>
                <a:latin typeface="Tahoma"/>
              </a:rPr>
              <a:t>santos.teles@marinha.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Arlindo Santos – Lighthouses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44000" cy="521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14960" y="5877000"/>
            <a:ext cx="318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gis.hidrografico.pt/ial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Historic lightho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Historically listed</a:t>
            </a: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952</a:t>
            </a: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58040" indent="-447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Trends by countries 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Less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Same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More 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19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8040" indent="-447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20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Historically classified</a:t>
            </a: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490</a:t>
            </a: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58040" indent="-447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Trends by countries 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Less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Same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More 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18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8040" indent="-447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21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Alternatively used</a:t>
            </a: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136</a:t>
            </a: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58040" indent="-447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Trends by countries 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Less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Same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More 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18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8040" indent="-447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18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82520" y="1531800"/>
          <a:ext cx="9429840" cy="41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531800"/>
                    <a:ext cx="9429840" cy="41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Historic lightho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4970520" y="3548160"/>
            <a:ext cx="287280" cy="1584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5760" y="3260880"/>
            <a:ext cx="311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istorically listed &gt; light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41800" y="4052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1125360"/>
          <a:ext cx="9468000" cy="517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946800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Historic lightho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5724360" y="3645000"/>
            <a:ext cx="287640" cy="1584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557360"/>
            <a:ext cx="287640" cy="1584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68240" y="263700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assified &gt; li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40053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80360" y="17733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99d"/>
                </a:solidFill>
                <a:latin typeface="Tahoma"/>
              </a:rPr>
              <a:t>Historically listed</a:t>
            </a:r>
            <a:r>
              <a:rPr b="0" lang="en-US" sz="18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599d"/>
                </a:solidFill>
                <a:latin typeface="Tahoma"/>
              </a:rPr>
              <a:t>952</a:t>
            </a:r>
            <a:r>
              <a:rPr b="0" lang="en-US" sz="18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Trends by countries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Less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Same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More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9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0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Historically lis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7" name="Rectangle 3"/>
          <p:cNvGraphicFramePr/>
          <p:nvPr/>
        </p:nvGraphicFramePr>
        <p:xfrm>
          <a:off x="34920" y="2557440"/>
          <a:ext cx="9396360" cy="339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2557440"/>
                    <a:ext cx="9396360" cy="33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" name=""/>
          <p:cNvGrpSpPr/>
          <p:nvPr/>
        </p:nvGrpSpPr>
        <p:grpSpPr>
          <a:xfrm>
            <a:off x="503280" y="2797200"/>
            <a:ext cx="7982640" cy="1007280"/>
            <a:chOff x="503280" y="2797200"/>
            <a:chExt cx="7982640" cy="1007280"/>
          </a:xfrm>
        </p:grpSpPr>
        <p:grpSp>
          <p:nvGrpSpPr>
            <p:cNvPr id="70" name=""/>
            <p:cNvGrpSpPr/>
            <p:nvPr/>
          </p:nvGrpSpPr>
          <p:grpSpPr>
            <a:xfrm>
              <a:off x="503280" y="2797200"/>
              <a:ext cx="7738200" cy="1007280"/>
              <a:chOff x="503280" y="2797200"/>
              <a:chExt cx="7738200" cy="1007280"/>
            </a:xfrm>
          </p:grpSpPr>
          <p:sp>
            <p:nvSpPr>
              <p:cNvPr id="71" name=""/>
              <p:cNvSpPr/>
              <p:nvPr/>
            </p:nvSpPr>
            <p:spPr>
              <a:xfrm>
                <a:off x="503280" y="3301920"/>
                <a:ext cx="752688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7653600" y="2797200"/>
                <a:ext cx="587880" cy="1007280"/>
                <a:chOff x="7653600" y="2797200"/>
                <a:chExt cx="587880" cy="1007280"/>
              </a:xfrm>
            </p:grpSpPr>
            <p:sp>
              <p:nvSpPr>
                <p:cNvPr id="73" name=""/>
                <p:cNvSpPr/>
                <p:nvPr/>
              </p:nvSpPr>
              <p:spPr>
                <a:xfrm rot="16200000">
                  <a:off x="7514640" y="2936160"/>
                  <a:ext cx="503280" cy="225360"/>
                </a:xfrm>
                <a:custGeom>
                  <a:avLst/>
                  <a:gdLst>
                    <a:gd name="textAreaLeft" fmla="*/ 78480 w 503280"/>
                    <a:gd name="textAreaRight" fmla="*/ 440640 w 503280"/>
                    <a:gd name="textAreaTop" fmla="*/ 56160 h 225360"/>
                    <a:gd name="textAreaBottom" fmla="*/ 169200 h 225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V="1" rot="5400000">
                  <a:off x="7514640" y="3439800"/>
                  <a:ext cx="502920" cy="225360"/>
                </a:xfrm>
                <a:custGeom>
                  <a:avLst/>
                  <a:gdLst>
                    <a:gd name="textAreaLeft" fmla="*/ 78480 w 502920"/>
                    <a:gd name="textAreaRight" fmla="*/ 440280 w 502920"/>
                    <a:gd name="textAreaTop" fmla="*/ 56160 h 225360"/>
                    <a:gd name="textAreaBottom" fmla="*/ 169200 h 225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893360" y="2941920"/>
                  <a:ext cx="348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891560" y="3478320"/>
                  <a:ext cx="323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" name=""/>
            <p:cNvSpPr/>
            <p:nvPr/>
          </p:nvSpPr>
          <p:spPr>
            <a:xfrm rot="10800000">
              <a:off x="8242200" y="3035160"/>
              <a:ext cx="243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Arial"/>
                </a:rPr>
                <a:t>Tr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Rectangle 3"/>
          <p:cNvGraphicFramePr/>
          <p:nvPr/>
        </p:nvGraphicFramePr>
        <p:xfrm>
          <a:off x="0" y="2541600"/>
          <a:ext cx="9612360" cy="347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41600"/>
                    <a:ext cx="9612360" cy="34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9528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99d"/>
                </a:solidFill>
                <a:latin typeface="Tahoma"/>
              </a:rPr>
              <a:t>Historically classified</a:t>
            </a:r>
            <a:r>
              <a:rPr b="0" lang="en-US" sz="18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599d"/>
                </a:solidFill>
                <a:latin typeface="Tahoma"/>
              </a:rPr>
              <a:t>490</a:t>
            </a:r>
            <a:r>
              <a:rPr b="0" lang="en-US" sz="18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Trends by countries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Less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Same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More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8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1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Historically classifi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39640" y="2798640"/>
            <a:ext cx="7983000" cy="1007280"/>
            <a:chOff x="539640" y="2798640"/>
            <a:chExt cx="7983000" cy="1007280"/>
          </a:xfrm>
        </p:grpSpPr>
        <p:grpSp>
          <p:nvGrpSpPr>
            <p:cNvPr id="83" name=""/>
            <p:cNvGrpSpPr/>
            <p:nvPr/>
          </p:nvGrpSpPr>
          <p:grpSpPr>
            <a:xfrm>
              <a:off x="539640" y="2798640"/>
              <a:ext cx="7738560" cy="1007280"/>
              <a:chOff x="539640" y="2798640"/>
              <a:chExt cx="7738560" cy="1007280"/>
            </a:xfrm>
          </p:grpSpPr>
          <p:sp>
            <p:nvSpPr>
              <p:cNvPr id="84" name=""/>
              <p:cNvSpPr/>
              <p:nvPr/>
            </p:nvSpPr>
            <p:spPr>
              <a:xfrm>
                <a:off x="539640" y="3303360"/>
                <a:ext cx="752724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7690320" y="2798640"/>
                <a:ext cx="587880" cy="1007280"/>
                <a:chOff x="7690320" y="2798640"/>
                <a:chExt cx="587880" cy="1007280"/>
              </a:xfrm>
            </p:grpSpPr>
            <p:sp>
              <p:nvSpPr>
                <p:cNvPr id="86" name=""/>
                <p:cNvSpPr/>
                <p:nvPr/>
              </p:nvSpPr>
              <p:spPr>
                <a:xfrm rot="16200000">
                  <a:off x="7551360" y="2937600"/>
                  <a:ext cx="503280" cy="225360"/>
                </a:xfrm>
                <a:custGeom>
                  <a:avLst/>
                  <a:gdLst>
                    <a:gd name="textAreaLeft" fmla="*/ 78480 w 503280"/>
                    <a:gd name="textAreaRight" fmla="*/ 440640 w 503280"/>
                    <a:gd name="textAreaTop" fmla="*/ 56160 h 225360"/>
                    <a:gd name="textAreaBottom" fmla="*/ 169200 h 225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V="1" rot="5400000">
                  <a:off x="7551360" y="3441240"/>
                  <a:ext cx="502920" cy="225360"/>
                </a:xfrm>
                <a:custGeom>
                  <a:avLst/>
                  <a:gdLst>
                    <a:gd name="textAreaLeft" fmla="*/ 78480 w 502920"/>
                    <a:gd name="textAreaRight" fmla="*/ 440280 w 502920"/>
                    <a:gd name="textAreaTop" fmla="*/ 56160 h 225360"/>
                    <a:gd name="textAreaBottom" fmla="*/ 169200 h 225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930080" y="2943360"/>
                  <a:ext cx="348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928280" y="3479760"/>
                  <a:ext cx="323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" name=""/>
            <p:cNvSpPr/>
            <p:nvPr/>
          </p:nvSpPr>
          <p:spPr>
            <a:xfrm rot="10800000">
              <a:off x="8278920" y="3036600"/>
              <a:ext cx="243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Arial"/>
                </a:rPr>
                <a:t>Tr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Rectangle 3"/>
          <p:cNvGraphicFramePr/>
          <p:nvPr/>
        </p:nvGraphicFramePr>
        <p:xfrm>
          <a:off x="0" y="2486160"/>
          <a:ext cx="9144000" cy="367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86160"/>
                    <a:ext cx="9144000" cy="36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9528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99d"/>
                </a:solidFill>
                <a:latin typeface="Tahoma"/>
              </a:rPr>
              <a:t>Alternatively used</a:t>
            </a:r>
            <a:r>
              <a:rPr b="0" lang="en-US" sz="18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599d"/>
                </a:solidFill>
                <a:latin typeface="Tahoma"/>
              </a:rPr>
              <a:t>136</a:t>
            </a:r>
            <a:r>
              <a:rPr b="0" lang="en-US" sz="18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Trends by countries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Less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Same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More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8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8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Alternatively u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68360" y="2727360"/>
            <a:ext cx="7982640" cy="1007280"/>
            <a:chOff x="468360" y="2727360"/>
            <a:chExt cx="7982640" cy="1007280"/>
          </a:xfrm>
        </p:grpSpPr>
        <p:grpSp>
          <p:nvGrpSpPr>
            <p:cNvPr id="96" name=""/>
            <p:cNvGrpSpPr/>
            <p:nvPr/>
          </p:nvGrpSpPr>
          <p:grpSpPr>
            <a:xfrm>
              <a:off x="468360" y="2727360"/>
              <a:ext cx="7738200" cy="1007280"/>
              <a:chOff x="468360" y="2727360"/>
              <a:chExt cx="7738200" cy="1007280"/>
            </a:xfrm>
          </p:grpSpPr>
          <p:sp>
            <p:nvSpPr>
              <p:cNvPr id="97" name=""/>
              <p:cNvSpPr/>
              <p:nvPr/>
            </p:nvSpPr>
            <p:spPr>
              <a:xfrm>
                <a:off x="468360" y="3232080"/>
                <a:ext cx="752688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7618680" y="2727360"/>
                <a:ext cx="587880" cy="1007280"/>
                <a:chOff x="7618680" y="2727360"/>
                <a:chExt cx="587880" cy="1007280"/>
              </a:xfrm>
            </p:grpSpPr>
            <p:sp>
              <p:nvSpPr>
                <p:cNvPr id="99" name=""/>
                <p:cNvSpPr/>
                <p:nvPr/>
              </p:nvSpPr>
              <p:spPr>
                <a:xfrm rot="16200000">
                  <a:off x="7479720" y="2866320"/>
                  <a:ext cx="503280" cy="225360"/>
                </a:xfrm>
                <a:custGeom>
                  <a:avLst/>
                  <a:gdLst>
                    <a:gd name="textAreaLeft" fmla="*/ 78480 w 503280"/>
                    <a:gd name="textAreaRight" fmla="*/ 440640 w 503280"/>
                    <a:gd name="textAreaTop" fmla="*/ 56160 h 225360"/>
                    <a:gd name="textAreaBottom" fmla="*/ 169200 h 225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V="1" rot="5400000">
                  <a:off x="7479720" y="3369960"/>
                  <a:ext cx="502920" cy="225360"/>
                </a:xfrm>
                <a:custGeom>
                  <a:avLst/>
                  <a:gdLst>
                    <a:gd name="textAreaLeft" fmla="*/ 78480 w 502920"/>
                    <a:gd name="textAreaRight" fmla="*/ 440280 w 502920"/>
                    <a:gd name="textAreaTop" fmla="*/ 56160 h 225360"/>
                    <a:gd name="textAreaBottom" fmla="*/ 169200 h 225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858440" y="2872080"/>
                  <a:ext cx="348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856640" y="3408480"/>
                  <a:ext cx="323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" name=""/>
            <p:cNvSpPr/>
            <p:nvPr/>
          </p:nvSpPr>
          <p:spPr>
            <a:xfrm rot="10800000">
              <a:off x="8207280" y="2965320"/>
              <a:ext cx="243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Arial"/>
                </a:rPr>
                <a:t>Tr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8:27:50Z</dcterms:created>
  <dc:creator>field</dc:creator>
  <dc:description/>
  <dc:language>en-US</dc:language>
  <cp:lastModifiedBy>Divisão Navegação - NS</cp:lastModifiedBy>
  <dcterms:modified xsi:type="dcterms:W3CDTF">2012-05-16T00:34:42Z</dcterms:modified>
  <cp:revision>36</cp:revision>
  <dc:subject/>
  <dc:title>Slide 1</dc:title>
</cp:coreProperties>
</file>